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039-BF1B-45BA-B59F-BCF630C3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61D-7C56-4623-8B0B-C3D08091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19B-23DB-493B-8D49-26A34E22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8FF-0487-4767-8070-51F30438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F27-D7FB-4F79-8E14-A514AD3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CCE-F25C-4A4C-A939-FB300584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E7C-DDDD-4E40-A695-4280D2EA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3FA-B9B7-4E22-BAE0-4BFD6880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F8A-A6AC-4B71-80E7-CFF07749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F39-AF5C-4074-BB7A-BE502CF1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875-0A48-44F8-8CF9-3040B6CF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0C0-6F97-4689-B235-23F252A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A9C3-EC06-4933-9B39-3797F04CC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Lens &amp; Mirro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x vs. Conc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rcRect l="0" t="0" r="33147" b="0"/>
          <a:stretch/>
        </p:blipFill>
        <p:spPr>
          <a:xfrm>
            <a:off x="228600" y="1447920"/>
            <a:ext cx="3657600" cy="2579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572000" y="19810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ght spreads out. No real image appears. Good for viewing wide areas (security mirrors in a stor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530388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28600" y="45720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ght comes together. Good for headlights and spotl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80880" y="1447920"/>
            <a:ext cx="190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x mi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 flipV="1">
            <a:off x="3276720" y="152316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429000" cy="252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rcRect l="0" t="0" r="0" b="48831"/>
          <a:stretch/>
        </p:blipFill>
        <p:spPr>
          <a:xfrm>
            <a:off x="4343400" y="3565440"/>
            <a:ext cx="4648320" cy="2795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04920" y="3962520"/>
            <a:ext cx="3962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type of lens magnifies an im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in microscopes and farsighted eyeg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495680" y="106668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type of lens reduces an image (makes it small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in cameras and in nearsighted eyeg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523880" y="22860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6:16:22Z</dcterms:created>
  <dc:creator>St. Aloysius</dc:creator>
  <dc:description/>
  <dc:language>en-US</dc:language>
  <cp:lastModifiedBy>St. Aloysius</cp:lastModifiedBy>
  <dcterms:modified xsi:type="dcterms:W3CDTF">2012-12-10T15:06:22Z</dcterms:modified>
  <cp:revision>12</cp:revision>
  <dc:subject/>
  <dc:title>Convex vs Concave</dc:title>
</cp:coreProperties>
</file>